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321-864C-4474-84BC-4E12EF3C5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1DD-C107-4547-B060-59981B0F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70DC-ED58-4985-BAFB-4DFE477BD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C335-9312-4C7B-9A81-8047F6AB1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6B27-7643-494A-AA02-DC72C2146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504-50D5-4305-92AC-053A953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32D-D334-4BE8-8D6D-DFA9D1D4D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D24-73B0-4607-BAE0-328EEC7C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837-D08B-4CCF-96AE-3C382A93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52B-830A-42FE-92F9-35413F41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F3E3-6771-4E19-98A7-EE55C92E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5AF-7603-4EB4-A365-A75CB115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8E466D-5162-45D6-AFAE-7911D31FB5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32746-5707-410A-8A2F-F11E46181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Get Started on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Mr. Rush/ Mr. Farr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make a Wi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Macintosh HD:Users:Craig:Movies:Screenium:20110204-161056.mov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to Embed a Dip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Macintosh HD:Users:Craig:Movies:Screenium:20110204-162958.mov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21:19:46Z</dcterms:created>
  <dc:creator>Craig Rush</dc:creator>
  <dc:description/>
  <dc:language>en-US</dc:language>
  <cp:lastModifiedBy>Craig Rush</cp:lastModifiedBy>
  <dcterms:modified xsi:type="dcterms:W3CDTF">2011-02-05T13:07:18Z</dcterms:modified>
  <cp:revision>2</cp:revision>
  <dc:subject/>
  <dc:title>How to Get Started on Wiki</dc:title>
</cp:coreProperties>
</file>